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A6929-C9BF-4C0A-9339-8B4874B6B3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DA0DA-7F99-4EA8-869D-0990D7E394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ABA9B-805D-4898-BD13-7EFBC913C1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8E510-FF99-469A-B921-0A828C03FE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CB885-42D1-4E81-B7C6-6ACB8C954B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0B081-16D3-45DD-B868-88750D9B59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7FF93-F182-4187-BC47-204AB760D5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6CF82-C8D3-4438-9AB1-F0305F5161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5A132-5830-4390-A925-F398BF10A0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531E0-B1FE-4BD7-8B7B-6732743291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CD60C-397B-480D-954F-E5A4E8E45F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0942B-C2C6-4C92-8465-9FECD9BCA9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1E65B-FE06-4FE9-9691-D68D5C73E3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D4E1A-F4D9-4935-A31F-459EC8B0FB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17C83-3520-4AEB-9830-28DB11320A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173CD-B9CB-4714-A1F1-7204197D1F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87CCF-BECD-4255-8494-99679F578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39EEE-12E8-4A73-9FA5-83637DD42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1C5FC-8B3F-455A-913E-97439B1ED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75EAC-3579-4A07-8594-7EA05645B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33FD4-E784-481B-A590-BFC4AEC75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76806-B4C9-49DA-A818-D73E7D837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457DB-3EA8-4718-A5DB-7E5D454C8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4B1CB-72BA-4BE9-A351-5F8BEBD86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800A3-4F26-4DAA-A161-306E3A6B9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455E1-3A25-4F65-B559-EB813287A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C2B7B-BD1F-44FD-A93C-C92638E7A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0F7EC-D643-4372-8A98-979FCA954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57B96-3E19-495E-88B4-148C1F199D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3"/>
          <p:cNvSpPr/>
          <p:nvPr/>
        </p:nvSpPr>
        <p:spPr>
          <a:xfrm>
            <a:off x="1216440" y="762120"/>
            <a:ext cx="693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Top 3 European countries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4"/>
          <p:cNvSpPr/>
          <p:nvPr/>
        </p:nvSpPr>
        <p:spPr>
          <a:xfrm>
            <a:off x="1247400" y="2438280"/>
            <a:ext cx="5895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743040" indent="-743040">
              <a:buClr>
                <a:srgbClr val="ff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alibri"/>
              </a:rPr>
              <a:t>England/Britain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buClr>
                <a:srgbClr val="ff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alibri"/>
              </a:rPr>
              <a:t>France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buClr>
                <a:srgbClr val="ff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alibri"/>
              </a:rPr>
              <a:t>Spain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http://www.johomaps.com/na/nablank.jpg"/>
          <p:cNvPicPr/>
          <p:nvPr/>
        </p:nvPicPr>
        <p:blipFill>
          <a:blip r:embed="rId1"/>
          <a:stretch/>
        </p:blipFill>
        <p:spPr>
          <a:xfrm>
            <a:off x="2666880" y="2089080"/>
            <a:ext cx="4165560" cy="4540320"/>
          </a:xfrm>
          <a:prstGeom prst="rect">
            <a:avLst/>
          </a:prstGeom>
          <a:ln w="0">
            <a:noFill/>
          </a:ln>
        </p:spPr>
      </p:pic>
      <p:sp>
        <p:nvSpPr>
          <p:cNvPr id="103" name="Freeform 2"/>
          <p:cNvSpPr/>
          <p:nvPr/>
        </p:nvSpPr>
        <p:spPr>
          <a:xfrm>
            <a:off x="4950000" y="5021280"/>
            <a:ext cx="307800" cy="1163520"/>
          </a:xfrm>
          <a:custGeom>
            <a:avLst/>
            <a:gdLst/>
            <a:ahLst/>
            <a:rect l="l" t="t" r="r" b="b"/>
            <a:pathLst>
              <a:path w="308447" h="1163786">
                <a:moveTo>
                  <a:pt x="100629" y="19324"/>
                </a:moveTo>
                <a:cubicBezTo>
                  <a:pt x="0" y="170268"/>
                  <a:pt x="83493" y="0"/>
                  <a:pt x="121411" y="123233"/>
                </a:cubicBezTo>
                <a:cubicBezTo>
                  <a:pt x="204666" y="393813"/>
                  <a:pt x="52286" y="321864"/>
                  <a:pt x="204538" y="372615"/>
                </a:cubicBezTo>
                <a:cubicBezTo>
                  <a:pt x="211465" y="393397"/>
                  <a:pt x="225320" y="413055"/>
                  <a:pt x="225320" y="434961"/>
                </a:cubicBezTo>
                <a:cubicBezTo>
                  <a:pt x="225320" y="473253"/>
                  <a:pt x="209348" y="591595"/>
                  <a:pt x="183756" y="642779"/>
                </a:cubicBezTo>
                <a:cubicBezTo>
                  <a:pt x="172586" y="665119"/>
                  <a:pt x="156047" y="684342"/>
                  <a:pt x="142192" y="705124"/>
                </a:cubicBezTo>
                <a:lnTo>
                  <a:pt x="100629" y="829815"/>
                </a:lnTo>
                <a:lnTo>
                  <a:pt x="79847" y="892161"/>
                </a:lnTo>
                <a:cubicBezTo>
                  <a:pt x="86774" y="961434"/>
                  <a:pt x="76838" y="1034552"/>
                  <a:pt x="100629" y="1099979"/>
                </a:cubicBezTo>
                <a:cubicBezTo>
                  <a:pt x="108115" y="1120566"/>
                  <a:pt x="141722" y="1115448"/>
                  <a:pt x="162974" y="1120761"/>
                </a:cubicBezTo>
                <a:cubicBezTo>
                  <a:pt x="281170" y="1150310"/>
                  <a:pt x="244638" y="1163786"/>
                  <a:pt x="308447" y="1099979"/>
                </a:cubicBezTo>
              </a:path>
            </a:pathLst>
          </a:custGeom>
          <a:noFill/>
          <a:ln w="381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TextBox 3"/>
          <p:cNvSpPr/>
          <p:nvPr/>
        </p:nvSpPr>
        <p:spPr>
          <a:xfrm>
            <a:off x="228600" y="228600"/>
            <a:ext cx="8534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New France =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___________________________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TextBox 4"/>
          <p:cNvSpPr/>
          <p:nvPr/>
        </p:nvSpPr>
        <p:spPr>
          <a:xfrm>
            <a:off x="2215080" y="762120"/>
            <a:ext cx="5465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alibri"/>
              </a:rPr>
              <a:t>Great Lakes area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Freeform 5"/>
          <p:cNvSpPr/>
          <p:nvPr/>
        </p:nvSpPr>
        <p:spPr>
          <a:xfrm>
            <a:off x="6022800" y="4530600"/>
            <a:ext cx="758880" cy="320760"/>
          </a:xfrm>
          <a:custGeom>
            <a:avLst/>
            <a:gdLst/>
            <a:ahLst/>
            <a:rect l="l" t="t" r="r" b="b"/>
            <a:pathLst>
              <a:path w="757912" h="320446">
                <a:moveTo>
                  <a:pt x="23977" y="311728"/>
                </a:moveTo>
                <a:cubicBezTo>
                  <a:pt x="73999" y="161661"/>
                  <a:pt x="0" y="320446"/>
                  <a:pt x="252577" y="228600"/>
                </a:cubicBezTo>
                <a:cubicBezTo>
                  <a:pt x="273164" y="221114"/>
                  <a:pt x="256253" y="179939"/>
                  <a:pt x="273359" y="166255"/>
                </a:cubicBezTo>
                <a:cubicBezTo>
                  <a:pt x="295662" y="148413"/>
                  <a:pt x="328777" y="152400"/>
                  <a:pt x="356486" y="145473"/>
                </a:cubicBezTo>
                <a:cubicBezTo>
                  <a:pt x="404977" y="0"/>
                  <a:pt x="356486" y="6927"/>
                  <a:pt x="460395" y="41564"/>
                </a:cubicBezTo>
                <a:cubicBezTo>
                  <a:pt x="474250" y="62346"/>
                  <a:pt x="484298" y="86248"/>
                  <a:pt x="501959" y="103909"/>
                </a:cubicBezTo>
                <a:cubicBezTo>
                  <a:pt x="542246" y="144196"/>
                  <a:pt x="575942" y="149352"/>
                  <a:pt x="626650" y="166255"/>
                </a:cubicBezTo>
                <a:cubicBezTo>
                  <a:pt x="647432" y="159328"/>
                  <a:pt x="673505" y="160963"/>
                  <a:pt x="688995" y="145473"/>
                </a:cubicBezTo>
                <a:cubicBezTo>
                  <a:pt x="757912" y="76556"/>
                  <a:pt x="673342" y="83128"/>
                  <a:pt x="730559" y="83128"/>
                </a:cubicBezTo>
              </a:path>
            </a:pathLst>
          </a:custGeom>
          <a:noFill/>
          <a:ln w="381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Rectangle 8"/>
          <p:cNvSpPr/>
          <p:nvPr/>
        </p:nvSpPr>
        <p:spPr>
          <a:xfrm>
            <a:off x="4952880" y="4419720"/>
            <a:ext cx="1295640" cy="8380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http://www.johomaps.com/na/nablank.jpg"/>
          <p:cNvPicPr/>
          <p:nvPr/>
        </p:nvPicPr>
        <p:blipFill>
          <a:blip r:embed="rId1"/>
          <a:stretch/>
        </p:blipFill>
        <p:spPr>
          <a:xfrm>
            <a:off x="2666880" y="2089080"/>
            <a:ext cx="4165560" cy="4540320"/>
          </a:xfrm>
          <a:prstGeom prst="rect">
            <a:avLst/>
          </a:prstGeom>
          <a:ln w="0">
            <a:noFill/>
          </a:ln>
        </p:spPr>
      </p:pic>
      <p:sp>
        <p:nvSpPr>
          <p:cNvPr id="109" name="Freeform 2"/>
          <p:cNvSpPr/>
          <p:nvPr/>
        </p:nvSpPr>
        <p:spPr>
          <a:xfrm>
            <a:off x="4950000" y="5021280"/>
            <a:ext cx="307800" cy="1163520"/>
          </a:xfrm>
          <a:custGeom>
            <a:avLst/>
            <a:gdLst/>
            <a:ahLst/>
            <a:rect l="l" t="t" r="r" b="b"/>
            <a:pathLst>
              <a:path w="308447" h="1163786">
                <a:moveTo>
                  <a:pt x="100629" y="19324"/>
                </a:moveTo>
                <a:cubicBezTo>
                  <a:pt x="0" y="170268"/>
                  <a:pt x="83493" y="0"/>
                  <a:pt x="121411" y="123233"/>
                </a:cubicBezTo>
                <a:cubicBezTo>
                  <a:pt x="204666" y="393813"/>
                  <a:pt x="52286" y="321864"/>
                  <a:pt x="204538" y="372615"/>
                </a:cubicBezTo>
                <a:cubicBezTo>
                  <a:pt x="211465" y="393397"/>
                  <a:pt x="225320" y="413055"/>
                  <a:pt x="225320" y="434961"/>
                </a:cubicBezTo>
                <a:cubicBezTo>
                  <a:pt x="225320" y="473253"/>
                  <a:pt x="209348" y="591595"/>
                  <a:pt x="183756" y="642779"/>
                </a:cubicBezTo>
                <a:cubicBezTo>
                  <a:pt x="172586" y="665119"/>
                  <a:pt x="156047" y="684342"/>
                  <a:pt x="142192" y="705124"/>
                </a:cubicBezTo>
                <a:lnTo>
                  <a:pt x="100629" y="829815"/>
                </a:lnTo>
                <a:lnTo>
                  <a:pt x="79847" y="892161"/>
                </a:lnTo>
                <a:cubicBezTo>
                  <a:pt x="86774" y="961434"/>
                  <a:pt x="76838" y="1034552"/>
                  <a:pt x="100629" y="1099979"/>
                </a:cubicBezTo>
                <a:cubicBezTo>
                  <a:pt x="108115" y="1120566"/>
                  <a:pt x="141722" y="1115448"/>
                  <a:pt x="162974" y="1120761"/>
                </a:cubicBezTo>
                <a:cubicBezTo>
                  <a:pt x="281170" y="1150310"/>
                  <a:pt x="244638" y="1163786"/>
                  <a:pt x="308447" y="1099979"/>
                </a:cubicBezTo>
              </a:path>
            </a:pathLst>
          </a:custGeom>
          <a:noFill/>
          <a:ln w="381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28600" y="228600"/>
            <a:ext cx="8534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New France =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___________________________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Freeform 5"/>
          <p:cNvSpPr/>
          <p:nvPr/>
        </p:nvSpPr>
        <p:spPr>
          <a:xfrm>
            <a:off x="6022800" y="4530600"/>
            <a:ext cx="758880" cy="320760"/>
          </a:xfrm>
          <a:custGeom>
            <a:avLst/>
            <a:gdLst/>
            <a:ahLst/>
            <a:rect l="l" t="t" r="r" b="b"/>
            <a:pathLst>
              <a:path w="757912" h="320446">
                <a:moveTo>
                  <a:pt x="23977" y="311728"/>
                </a:moveTo>
                <a:cubicBezTo>
                  <a:pt x="73999" y="161661"/>
                  <a:pt x="0" y="320446"/>
                  <a:pt x="252577" y="228600"/>
                </a:cubicBezTo>
                <a:cubicBezTo>
                  <a:pt x="273164" y="221114"/>
                  <a:pt x="256253" y="179939"/>
                  <a:pt x="273359" y="166255"/>
                </a:cubicBezTo>
                <a:cubicBezTo>
                  <a:pt x="295662" y="148413"/>
                  <a:pt x="328777" y="152400"/>
                  <a:pt x="356486" y="145473"/>
                </a:cubicBezTo>
                <a:cubicBezTo>
                  <a:pt x="404977" y="0"/>
                  <a:pt x="356486" y="6927"/>
                  <a:pt x="460395" y="41564"/>
                </a:cubicBezTo>
                <a:cubicBezTo>
                  <a:pt x="474250" y="62346"/>
                  <a:pt x="484298" y="86248"/>
                  <a:pt x="501959" y="103909"/>
                </a:cubicBezTo>
                <a:cubicBezTo>
                  <a:pt x="542246" y="144196"/>
                  <a:pt x="575942" y="149352"/>
                  <a:pt x="626650" y="166255"/>
                </a:cubicBezTo>
                <a:cubicBezTo>
                  <a:pt x="647432" y="159328"/>
                  <a:pt x="673505" y="160963"/>
                  <a:pt x="688995" y="145473"/>
                </a:cubicBezTo>
                <a:cubicBezTo>
                  <a:pt x="757912" y="76556"/>
                  <a:pt x="673342" y="83128"/>
                  <a:pt x="730559" y="83128"/>
                </a:cubicBezTo>
              </a:path>
            </a:pathLst>
          </a:custGeom>
          <a:noFill/>
          <a:ln w="381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Rectangle 8"/>
          <p:cNvSpPr/>
          <p:nvPr/>
        </p:nvSpPr>
        <p:spPr>
          <a:xfrm rot="20199000">
            <a:off x="5811840" y="4257360"/>
            <a:ext cx="1092240" cy="6001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TextBox 7"/>
          <p:cNvSpPr/>
          <p:nvPr/>
        </p:nvSpPr>
        <p:spPr>
          <a:xfrm>
            <a:off x="253440" y="914400"/>
            <a:ext cx="8529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St. Lawrence River area into Canad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Box 1"/>
          <p:cNvSpPr/>
          <p:nvPr/>
        </p:nvSpPr>
        <p:spPr>
          <a:xfrm>
            <a:off x="228600" y="228600"/>
            <a:ext cx="8610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England in the Americas =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___________________________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TextBox 2"/>
          <p:cNvSpPr/>
          <p:nvPr/>
        </p:nvSpPr>
        <p:spPr>
          <a:xfrm>
            <a:off x="2023560" y="762120"/>
            <a:ext cx="4961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alibri"/>
              </a:rPr>
              <a:t>the 13 colonies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Picture 2" descr="http://z.about.com/d/geography/1/0/9/H/usa3.jpg"/>
          <p:cNvPicPr/>
          <p:nvPr/>
        </p:nvPicPr>
        <p:blipFill>
          <a:blip r:embed="rId1"/>
          <a:srcRect l="0" t="10606" r="0" b="9091"/>
          <a:stretch/>
        </p:blipFill>
        <p:spPr>
          <a:xfrm>
            <a:off x="0" y="1981080"/>
            <a:ext cx="7238880" cy="46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Box 1"/>
          <p:cNvSpPr/>
          <p:nvPr/>
        </p:nvSpPr>
        <p:spPr>
          <a:xfrm>
            <a:off x="228600" y="228600"/>
            <a:ext cx="8610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England in the Americas =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___________________________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TextBox 2"/>
          <p:cNvSpPr/>
          <p:nvPr/>
        </p:nvSpPr>
        <p:spPr>
          <a:xfrm>
            <a:off x="2023560" y="762120"/>
            <a:ext cx="4961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alibri"/>
              </a:rPr>
              <a:t>the 13 colonies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Picture 2" descr="http://d-maps.com/m/colonies13/colonies1305.gif"/>
          <p:cNvPicPr/>
          <p:nvPr/>
        </p:nvPicPr>
        <p:blipFill>
          <a:blip r:embed="rId1"/>
          <a:stretch/>
        </p:blipFill>
        <p:spPr>
          <a:xfrm>
            <a:off x="2590920" y="1938240"/>
            <a:ext cx="3657600" cy="49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http://d-maps.com/m/colonies13/colonies1305.gif"/>
          <p:cNvPicPr/>
          <p:nvPr/>
        </p:nvPicPr>
        <p:blipFill>
          <a:blip r:embed="rId1"/>
          <a:srcRect l="49964" t="14513" r="0" b="22221"/>
          <a:stretch/>
        </p:blipFill>
        <p:spPr>
          <a:xfrm>
            <a:off x="0" y="-11160"/>
            <a:ext cx="4038480" cy="6869160"/>
          </a:xfrm>
          <a:prstGeom prst="rect">
            <a:avLst/>
          </a:prstGeom>
          <a:ln w="0">
            <a:noFill/>
          </a:ln>
        </p:spPr>
      </p:pic>
      <p:cxnSp>
        <p:nvCxnSpPr>
          <p:cNvPr id="121" name="Straight Arrow Connector 3"/>
          <p:cNvCxnSpPr/>
          <p:nvPr/>
        </p:nvCxnSpPr>
        <p:spPr>
          <a:xfrm>
            <a:off x="2971800" y="1066320"/>
            <a:ext cx="1372320" cy="25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22" name="TextBox 5"/>
          <p:cNvSpPr/>
          <p:nvPr/>
        </p:nvSpPr>
        <p:spPr>
          <a:xfrm>
            <a:off x="4562640" y="762120"/>
            <a:ext cx="365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Massachusetts – M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3" name="Straight Arrow Connector 6"/>
          <p:cNvCxnSpPr/>
          <p:nvPr/>
        </p:nvCxnSpPr>
        <p:spPr>
          <a:xfrm>
            <a:off x="2742840" y="533520"/>
            <a:ext cx="1600920" cy="21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24" name="TextBox 7"/>
          <p:cNvSpPr/>
          <p:nvPr/>
        </p:nvSpPr>
        <p:spPr>
          <a:xfrm>
            <a:off x="4512600" y="228600"/>
            <a:ext cx="388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New Hampshire – NH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5" name="Straight Arrow Connector 9"/>
          <p:cNvCxnSpPr/>
          <p:nvPr/>
        </p:nvCxnSpPr>
        <p:spPr>
          <a:xfrm>
            <a:off x="3276360" y="1522440"/>
            <a:ext cx="1067400" cy="21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26" name="TextBox 10"/>
          <p:cNvSpPr/>
          <p:nvPr/>
        </p:nvSpPr>
        <p:spPr>
          <a:xfrm>
            <a:off x="4587840" y="1244520"/>
            <a:ext cx="318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Rhode Island – RI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Straight Connector 12"/>
          <p:cNvSpPr/>
          <p:nvPr/>
        </p:nvSpPr>
        <p:spPr>
          <a:xfrm>
            <a:off x="2971800" y="1371600"/>
            <a:ext cx="304920" cy="152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15"/>
          <p:cNvCxnSpPr/>
          <p:nvPr/>
        </p:nvCxnSpPr>
        <p:spPr>
          <a:xfrm>
            <a:off x="3261960" y="1902960"/>
            <a:ext cx="1067400" cy="25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29" name="TextBox 16"/>
          <p:cNvSpPr/>
          <p:nvPr/>
        </p:nvSpPr>
        <p:spPr>
          <a:xfrm>
            <a:off x="4578120" y="1625760"/>
            <a:ext cx="317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Connecticut – CT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Straight Connector 17"/>
          <p:cNvSpPr/>
          <p:nvPr/>
        </p:nvSpPr>
        <p:spPr>
          <a:xfrm>
            <a:off x="2743200" y="1447920"/>
            <a:ext cx="519120" cy="4572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TextBox 22"/>
          <p:cNvSpPr/>
          <p:nvPr/>
        </p:nvSpPr>
        <p:spPr>
          <a:xfrm>
            <a:off x="1773720" y="990720"/>
            <a:ext cx="66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N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TextBox 23"/>
          <p:cNvSpPr/>
          <p:nvPr/>
        </p:nvSpPr>
        <p:spPr>
          <a:xfrm>
            <a:off x="1361520" y="1854360"/>
            <a:ext cx="64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P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3" name="Straight Arrow Connector 24"/>
          <p:cNvCxnSpPr/>
          <p:nvPr/>
        </p:nvCxnSpPr>
        <p:spPr>
          <a:xfrm>
            <a:off x="2438280" y="2285640"/>
            <a:ext cx="1905840" cy="514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34" name="TextBox 25"/>
          <p:cNvSpPr/>
          <p:nvPr/>
        </p:nvSpPr>
        <p:spPr>
          <a:xfrm>
            <a:off x="4584960" y="2057400"/>
            <a:ext cx="296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New Jersey – NJ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5" name="Straight Arrow Connector 30"/>
          <p:cNvCxnSpPr/>
          <p:nvPr/>
        </p:nvCxnSpPr>
        <p:spPr>
          <a:xfrm>
            <a:off x="2209320" y="2742840"/>
            <a:ext cx="2134440" cy="10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36" name="TextBox 31"/>
          <p:cNvSpPr/>
          <p:nvPr/>
        </p:nvSpPr>
        <p:spPr>
          <a:xfrm>
            <a:off x="4579920" y="2463840"/>
            <a:ext cx="272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Delaware – D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7" name="Straight Arrow Connector 33"/>
          <p:cNvCxnSpPr/>
          <p:nvPr/>
        </p:nvCxnSpPr>
        <p:spPr>
          <a:xfrm>
            <a:off x="3261960" y="3351240"/>
            <a:ext cx="1067400" cy="21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38" name="TextBox 34"/>
          <p:cNvSpPr/>
          <p:nvPr/>
        </p:nvSpPr>
        <p:spPr>
          <a:xfrm>
            <a:off x="4574160" y="3073320"/>
            <a:ext cx="299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Maryland – MD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Straight Connector 35"/>
          <p:cNvSpPr/>
          <p:nvPr/>
        </p:nvSpPr>
        <p:spPr>
          <a:xfrm>
            <a:off x="1905120" y="2895480"/>
            <a:ext cx="1357200" cy="4572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7"/>
          <p:cNvSpPr/>
          <p:nvPr/>
        </p:nvSpPr>
        <p:spPr>
          <a:xfrm>
            <a:off x="1908720" y="838080"/>
            <a:ext cx="462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TextBox 38"/>
          <p:cNvSpPr/>
          <p:nvPr/>
        </p:nvSpPr>
        <p:spPr>
          <a:xfrm>
            <a:off x="1451520" y="1760400"/>
            <a:ext cx="462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TextBox 39"/>
          <p:cNvSpPr/>
          <p:nvPr/>
        </p:nvSpPr>
        <p:spPr>
          <a:xfrm>
            <a:off x="1288080" y="30733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V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TextBox 40"/>
          <p:cNvSpPr/>
          <p:nvPr/>
        </p:nvSpPr>
        <p:spPr>
          <a:xfrm>
            <a:off x="1223640" y="3987720"/>
            <a:ext cx="66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N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TextBox 41"/>
          <p:cNvSpPr/>
          <p:nvPr/>
        </p:nvSpPr>
        <p:spPr>
          <a:xfrm>
            <a:off x="842760" y="467352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S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TextBox 42"/>
          <p:cNvSpPr/>
          <p:nvPr/>
        </p:nvSpPr>
        <p:spPr>
          <a:xfrm>
            <a:off x="397440" y="5334120"/>
            <a:ext cx="68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G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TextBox 43"/>
          <p:cNvSpPr/>
          <p:nvPr/>
        </p:nvSpPr>
        <p:spPr>
          <a:xfrm>
            <a:off x="1362600" y="2971800"/>
            <a:ext cx="462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TextBox 44"/>
          <p:cNvSpPr/>
          <p:nvPr/>
        </p:nvSpPr>
        <p:spPr>
          <a:xfrm>
            <a:off x="1362600" y="3894120"/>
            <a:ext cx="462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xtBox 45"/>
          <p:cNvSpPr/>
          <p:nvPr/>
        </p:nvSpPr>
        <p:spPr>
          <a:xfrm>
            <a:off x="905400" y="4495680"/>
            <a:ext cx="462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TextBox 46"/>
          <p:cNvSpPr/>
          <p:nvPr/>
        </p:nvSpPr>
        <p:spPr>
          <a:xfrm>
            <a:off x="524160" y="5181480"/>
            <a:ext cx="462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Box 1"/>
          <p:cNvSpPr/>
          <p:nvPr/>
        </p:nvSpPr>
        <p:spPr>
          <a:xfrm>
            <a:off x="228600" y="228600"/>
            <a:ext cx="8610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England in the Americas =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___________________________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2023560" y="762120"/>
            <a:ext cx="4961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alibri"/>
              </a:rPr>
              <a:t>the 13 colonies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" name="Picture 2" descr="http://www.brtprojects.org/cyberschool/history/images2/13colonies.gif"/>
          <p:cNvPicPr/>
          <p:nvPr/>
        </p:nvPicPr>
        <p:blipFill>
          <a:blip r:embed="rId1"/>
          <a:stretch/>
        </p:blipFill>
        <p:spPr>
          <a:xfrm>
            <a:off x="2438280" y="1913040"/>
            <a:ext cx="4267440" cy="494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Box 1"/>
          <p:cNvSpPr/>
          <p:nvPr/>
        </p:nvSpPr>
        <p:spPr>
          <a:xfrm>
            <a:off x="1295280" y="228600"/>
            <a:ext cx="6629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Spain in the Americas…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New Spain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2"/>
          <p:cNvSpPr/>
          <p:nvPr/>
        </p:nvSpPr>
        <p:spPr>
          <a:xfrm>
            <a:off x="457200" y="2081160"/>
            <a:ext cx="8534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buClr>
                <a:srgbClr val="ff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alibri"/>
              </a:rPr>
              <a:t>South America (except Brazil)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buClr>
                <a:srgbClr val="ff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alibri"/>
              </a:rPr>
              <a:t>Mexico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buClr>
                <a:srgbClr val="ff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alibri"/>
              </a:rPr>
              <a:t>FL, TX, NM, AZ, CA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Box 1"/>
          <p:cNvSpPr/>
          <p:nvPr/>
        </p:nvSpPr>
        <p:spPr>
          <a:xfrm>
            <a:off x="1295280" y="228600"/>
            <a:ext cx="6629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France in the Americas…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New France…Louisiana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2"/>
          <p:cNvSpPr/>
          <p:nvPr/>
        </p:nvSpPr>
        <p:spPr>
          <a:xfrm>
            <a:off x="457200" y="1828800"/>
            <a:ext cx="853452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buClr>
                <a:srgbClr val="ff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alibri"/>
              </a:rPr>
              <a:t>Mississippi River to Rocky Mountains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buClr>
                <a:srgbClr val="ff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alibri"/>
              </a:rPr>
              <a:t>Great Lakes area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buClr>
                <a:srgbClr val="ff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alibri"/>
              </a:rPr>
              <a:t>St. Lawrence River area into Canada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Box 1"/>
          <p:cNvSpPr/>
          <p:nvPr/>
        </p:nvSpPr>
        <p:spPr>
          <a:xfrm>
            <a:off x="1066680" y="228600"/>
            <a:ext cx="7391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England in the Americas…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The 13 Colonies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Box 2"/>
          <p:cNvSpPr/>
          <p:nvPr/>
        </p:nvSpPr>
        <p:spPr>
          <a:xfrm>
            <a:off x="380880" y="1981080"/>
            <a:ext cx="4114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buClr>
                <a:srgbClr val="ff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Massachusetts – M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buClr>
                <a:srgbClr val="ff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New Hampshire – N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buClr>
                <a:srgbClr val="ff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Rhode Island – R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buClr>
                <a:srgbClr val="ff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Connecticut – 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Box 5"/>
          <p:cNvSpPr/>
          <p:nvPr/>
        </p:nvSpPr>
        <p:spPr>
          <a:xfrm>
            <a:off x="4876920" y="1981080"/>
            <a:ext cx="41148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buClr>
                <a:srgbClr val="ff00ff"/>
              </a:buClr>
              <a:buFont typeface="Calibri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ff"/>
                </a:solidFill>
                <a:latin typeface="Calibri"/>
              </a:rPr>
              <a:t>Maryland – M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buClr>
                <a:srgbClr val="ff00ff"/>
              </a:buClr>
              <a:buFont typeface="Calibri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ff"/>
                </a:solidFill>
                <a:latin typeface="Calibri"/>
              </a:rPr>
              <a:t>Virginia – V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buClr>
                <a:srgbClr val="ff00ff"/>
              </a:buClr>
              <a:buFont typeface="Calibri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ff"/>
                </a:solidFill>
                <a:latin typeface="Calibri"/>
              </a:rPr>
              <a:t>North Carolina – N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buClr>
                <a:srgbClr val="ff00ff"/>
              </a:buClr>
              <a:buFont typeface="Calibri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ff"/>
                </a:solidFill>
                <a:latin typeface="Calibri"/>
              </a:rPr>
              <a:t>South Carolina – S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buClr>
                <a:srgbClr val="ff00ff"/>
              </a:buClr>
              <a:buFont typeface="Calibri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ff"/>
                </a:solidFill>
                <a:latin typeface="Calibri"/>
              </a:rPr>
              <a:t>Georgia - G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Box 6"/>
          <p:cNvSpPr/>
          <p:nvPr/>
        </p:nvSpPr>
        <p:spPr>
          <a:xfrm>
            <a:off x="380880" y="4051440"/>
            <a:ext cx="4114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buClr>
                <a:srgbClr val="ff579b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579b"/>
                </a:solidFill>
                <a:latin typeface="Calibri"/>
              </a:rPr>
              <a:t>New York – N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buClr>
                <a:srgbClr val="ff579b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579b"/>
                </a:solidFill>
                <a:latin typeface="Calibri"/>
              </a:rPr>
              <a:t>New Jersey – NJ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buClr>
                <a:srgbClr val="ff579b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579b"/>
                </a:solidFill>
                <a:latin typeface="Calibri"/>
              </a:rPr>
              <a:t>Pennsylvania – P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buClr>
                <a:srgbClr val="ff579b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579b"/>
                </a:solidFill>
                <a:latin typeface="Calibri"/>
              </a:rPr>
              <a:t>Delaware - 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http://www.clker.com/cliparts/2/f/a/e/1197098819441524037bubba_europe_outline.svg.hi.png"/>
          <p:cNvPicPr/>
          <p:nvPr/>
        </p:nvPicPr>
        <p:blipFill>
          <a:blip r:embed="rId1"/>
          <a:stretch/>
        </p:blipFill>
        <p:spPr>
          <a:xfrm>
            <a:off x="2438280" y="1150920"/>
            <a:ext cx="4496040" cy="5445000"/>
          </a:xfrm>
          <a:prstGeom prst="rect">
            <a:avLst/>
          </a:prstGeom>
          <a:ln w="0">
            <a:noFill/>
          </a:ln>
        </p:spPr>
      </p:pic>
      <p:sp>
        <p:nvSpPr>
          <p:cNvPr id="59" name="TextBox 2"/>
          <p:cNvSpPr/>
          <p:nvPr/>
        </p:nvSpPr>
        <p:spPr>
          <a:xfrm>
            <a:off x="1216440" y="76320"/>
            <a:ext cx="693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Top 3 European countries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0" name="Straight Arrow Connector 4"/>
          <p:cNvCxnSpPr/>
          <p:nvPr/>
        </p:nvCxnSpPr>
        <p:spPr>
          <a:xfrm flipH="1">
            <a:off x="1828440" y="5561640"/>
            <a:ext cx="1296000" cy="75240"/>
          </a:xfrm>
          <a:prstGeom prst="straightConnector1">
            <a:avLst/>
          </a:prstGeom>
          <a:ln w="7632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61" name="5-Point Star 7"/>
          <p:cNvSpPr/>
          <p:nvPr/>
        </p:nvSpPr>
        <p:spPr>
          <a:xfrm>
            <a:off x="3124080" y="5257800"/>
            <a:ext cx="533520" cy="533520"/>
          </a:xfrm>
          <a:custGeom>
            <a:avLst/>
            <a:gdLst>
              <a:gd name="textAreaLeft" fmla="*/ 164880 w 533520"/>
              <a:gd name="textAreaRight" fmla="*/ 368640 w 533520"/>
              <a:gd name="textAreaTop" fmla="*/ 203760 h 533520"/>
              <a:gd name="textAreaBottom" fmla="*/ 407520 h 533520"/>
            </a:gdLst>
            <a:ahLst/>
            <a:rect l="textAreaLeft" t="textAreaTop" r="textAreaRight" b="textAreaBottom"/>
            <a:pathLst>
              <a:path w="533400" h="533400">
                <a:moveTo>
                  <a:pt x="1" y="203740"/>
                </a:moveTo>
                <a:lnTo>
                  <a:pt x="203742" y="203742"/>
                </a:lnTo>
                <a:lnTo>
                  <a:pt x="266700" y="0"/>
                </a:lnTo>
                <a:lnTo>
                  <a:pt x="329658" y="203742"/>
                </a:lnTo>
                <a:lnTo>
                  <a:pt x="533399" y="203740"/>
                </a:lnTo>
                <a:lnTo>
                  <a:pt x="368569" y="329658"/>
                </a:lnTo>
                <a:lnTo>
                  <a:pt x="431530" y="533398"/>
                </a:lnTo>
                <a:lnTo>
                  <a:pt x="266700" y="407479"/>
                </a:lnTo>
                <a:lnTo>
                  <a:pt x="101870" y="533398"/>
                </a:lnTo>
                <a:lnTo>
                  <a:pt x="164831" y="329658"/>
                </a:lnTo>
                <a:close/>
              </a:path>
            </a:pathLst>
          </a:custGeom>
          <a:solidFill>
            <a:srgbClr val="ffff00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Box 8"/>
          <p:cNvSpPr/>
          <p:nvPr/>
        </p:nvSpPr>
        <p:spPr>
          <a:xfrm>
            <a:off x="403560" y="5311800"/>
            <a:ext cx="1340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Spai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3" name="Straight Arrow Connector 9"/>
          <p:cNvCxnSpPr>
            <a:endCxn id="64" idx="3"/>
          </p:cNvCxnSpPr>
          <p:nvPr/>
        </p:nvCxnSpPr>
        <p:spPr>
          <a:xfrm flipH="1">
            <a:off x="1898280" y="4723200"/>
            <a:ext cx="1759680" cy="104040"/>
          </a:xfrm>
          <a:prstGeom prst="straightConnector1">
            <a:avLst/>
          </a:prstGeom>
          <a:ln w="7632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65" name="5-Point Star 10"/>
          <p:cNvSpPr/>
          <p:nvPr/>
        </p:nvSpPr>
        <p:spPr>
          <a:xfrm>
            <a:off x="3733920" y="4419720"/>
            <a:ext cx="533160" cy="533160"/>
          </a:xfrm>
          <a:custGeom>
            <a:avLst/>
            <a:gdLst>
              <a:gd name="textAreaLeft" fmla="*/ 164520 w 533160"/>
              <a:gd name="textAreaRight" fmla="*/ 368640 w 533160"/>
              <a:gd name="textAreaTop" fmla="*/ 203760 h 533160"/>
              <a:gd name="textAreaBottom" fmla="*/ 407520 h 533160"/>
            </a:gdLst>
            <a:ahLst/>
            <a:rect l="textAreaLeft" t="textAreaTop" r="textAreaRight" b="textAreaBottom"/>
            <a:pathLst>
              <a:path w="533400" h="533400">
                <a:moveTo>
                  <a:pt x="1" y="203740"/>
                </a:moveTo>
                <a:lnTo>
                  <a:pt x="203742" y="203742"/>
                </a:lnTo>
                <a:lnTo>
                  <a:pt x="266700" y="0"/>
                </a:lnTo>
                <a:lnTo>
                  <a:pt x="329658" y="203742"/>
                </a:lnTo>
                <a:lnTo>
                  <a:pt x="533399" y="203740"/>
                </a:lnTo>
                <a:lnTo>
                  <a:pt x="368569" y="329658"/>
                </a:lnTo>
                <a:lnTo>
                  <a:pt x="431530" y="533398"/>
                </a:lnTo>
                <a:lnTo>
                  <a:pt x="266700" y="407479"/>
                </a:lnTo>
                <a:lnTo>
                  <a:pt x="101870" y="533398"/>
                </a:lnTo>
                <a:lnTo>
                  <a:pt x="164831" y="329658"/>
                </a:lnTo>
                <a:close/>
              </a:path>
            </a:pathLst>
          </a:custGeom>
          <a:solidFill>
            <a:srgbClr val="ffff00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Box 11"/>
          <p:cNvSpPr/>
          <p:nvPr/>
        </p:nvSpPr>
        <p:spPr>
          <a:xfrm>
            <a:off x="309600" y="4473720"/>
            <a:ext cx="158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Franc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6" name="Straight Arrow Connector 13"/>
          <p:cNvCxnSpPr/>
          <p:nvPr/>
        </p:nvCxnSpPr>
        <p:spPr>
          <a:xfrm flipH="1">
            <a:off x="2133360" y="3961440"/>
            <a:ext cx="1296000" cy="75240"/>
          </a:xfrm>
          <a:prstGeom prst="straightConnector1">
            <a:avLst/>
          </a:prstGeom>
          <a:ln w="7632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67" name="5-Point Star 14"/>
          <p:cNvSpPr/>
          <p:nvPr/>
        </p:nvSpPr>
        <p:spPr>
          <a:xfrm>
            <a:off x="3429000" y="3657600"/>
            <a:ext cx="533520" cy="533520"/>
          </a:xfrm>
          <a:custGeom>
            <a:avLst/>
            <a:gdLst>
              <a:gd name="textAreaLeft" fmla="*/ 164880 w 533520"/>
              <a:gd name="textAreaRight" fmla="*/ 368640 w 533520"/>
              <a:gd name="textAreaTop" fmla="*/ 203760 h 533520"/>
              <a:gd name="textAreaBottom" fmla="*/ 407520 h 533520"/>
            </a:gdLst>
            <a:ahLst/>
            <a:rect l="textAreaLeft" t="textAreaTop" r="textAreaRight" b="textAreaBottom"/>
            <a:pathLst>
              <a:path w="533400" h="533400">
                <a:moveTo>
                  <a:pt x="1" y="203740"/>
                </a:moveTo>
                <a:lnTo>
                  <a:pt x="203742" y="203742"/>
                </a:lnTo>
                <a:lnTo>
                  <a:pt x="266700" y="0"/>
                </a:lnTo>
                <a:lnTo>
                  <a:pt x="329658" y="203742"/>
                </a:lnTo>
                <a:lnTo>
                  <a:pt x="533399" y="203740"/>
                </a:lnTo>
                <a:lnTo>
                  <a:pt x="368569" y="329658"/>
                </a:lnTo>
                <a:lnTo>
                  <a:pt x="431530" y="533398"/>
                </a:lnTo>
                <a:lnTo>
                  <a:pt x="266700" y="407479"/>
                </a:lnTo>
                <a:lnTo>
                  <a:pt x="101870" y="533398"/>
                </a:lnTo>
                <a:lnTo>
                  <a:pt x="164831" y="329658"/>
                </a:lnTo>
                <a:close/>
              </a:path>
            </a:pathLst>
          </a:custGeom>
          <a:solidFill>
            <a:srgbClr val="ffff00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Box 15"/>
          <p:cNvSpPr/>
          <p:nvPr/>
        </p:nvSpPr>
        <p:spPr>
          <a:xfrm>
            <a:off x="240840" y="3711600"/>
            <a:ext cx="1861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England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http://www.harpercollege.edu/mhealy/g101t/studygd/unit2/samer/smclosed.gif"/>
          <p:cNvPicPr/>
          <p:nvPr/>
        </p:nvPicPr>
        <p:blipFill>
          <a:blip r:embed="rId1"/>
          <a:stretch/>
        </p:blipFill>
        <p:spPr>
          <a:xfrm>
            <a:off x="2590920" y="2000160"/>
            <a:ext cx="4267080" cy="4857840"/>
          </a:xfrm>
          <a:prstGeom prst="rect">
            <a:avLst/>
          </a:prstGeom>
          <a:ln w="0">
            <a:noFill/>
          </a:ln>
        </p:spPr>
      </p:pic>
      <p:sp>
        <p:nvSpPr>
          <p:cNvPr id="70" name="TextBox 2"/>
          <p:cNvSpPr/>
          <p:nvPr/>
        </p:nvSpPr>
        <p:spPr>
          <a:xfrm>
            <a:off x="228600" y="228600"/>
            <a:ext cx="8915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New Spain =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South America (except ________)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Box 3"/>
          <p:cNvSpPr/>
          <p:nvPr/>
        </p:nvSpPr>
        <p:spPr>
          <a:xfrm>
            <a:off x="6478920" y="736560"/>
            <a:ext cx="1933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alibri"/>
              </a:rPr>
              <a:t>Brazi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TextBox 4"/>
          <p:cNvSpPr/>
          <p:nvPr/>
        </p:nvSpPr>
        <p:spPr>
          <a:xfrm>
            <a:off x="4867560" y="2286000"/>
            <a:ext cx="114552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800" spc="-1" strike="noStrike">
                <a:solidFill>
                  <a:srgbClr val="ff0000"/>
                </a:solidFill>
                <a:latin typeface="Calibri"/>
              </a:rPr>
              <a:t>X</a:t>
            </a:r>
            <a:endParaRPr b="0" lang="en-US" sz="1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http://www.evgschool.org/images/north_america_blank_2.JPG"/>
          <p:cNvPicPr/>
          <p:nvPr/>
        </p:nvPicPr>
        <p:blipFill>
          <a:blip r:embed="rId1"/>
          <a:stretch/>
        </p:blipFill>
        <p:spPr>
          <a:xfrm>
            <a:off x="2666880" y="1447920"/>
            <a:ext cx="4040280" cy="5105160"/>
          </a:xfrm>
          <a:prstGeom prst="rect">
            <a:avLst/>
          </a:prstGeom>
          <a:ln w="0">
            <a:noFill/>
          </a:ln>
        </p:spPr>
      </p:pic>
      <p:sp>
        <p:nvSpPr>
          <p:cNvPr id="74" name="TextBox 2"/>
          <p:cNvSpPr/>
          <p:nvPr/>
        </p:nvSpPr>
        <p:spPr>
          <a:xfrm>
            <a:off x="685800" y="541440"/>
            <a:ext cx="7543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New Spain = _____________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TextBox 3"/>
          <p:cNvSpPr/>
          <p:nvPr/>
        </p:nvSpPr>
        <p:spPr>
          <a:xfrm>
            <a:off x="4273200" y="304920"/>
            <a:ext cx="2497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alibri"/>
              </a:rPr>
              <a:t>Mexico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6" name="Straight Arrow Connector 4"/>
          <p:cNvCxnSpPr/>
          <p:nvPr/>
        </p:nvCxnSpPr>
        <p:spPr>
          <a:xfrm flipH="1">
            <a:off x="2133000" y="5561640"/>
            <a:ext cx="1981800" cy="153000"/>
          </a:xfrm>
          <a:prstGeom prst="straightConnector1">
            <a:avLst/>
          </a:prstGeom>
          <a:ln w="7632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77" name="5-Point Star 5"/>
          <p:cNvSpPr/>
          <p:nvPr/>
        </p:nvSpPr>
        <p:spPr>
          <a:xfrm>
            <a:off x="4114800" y="5257800"/>
            <a:ext cx="533520" cy="533520"/>
          </a:xfrm>
          <a:custGeom>
            <a:avLst/>
            <a:gdLst>
              <a:gd name="textAreaLeft" fmla="*/ 164880 w 533520"/>
              <a:gd name="textAreaRight" fmla="*/ 368640 w 533520"/>
              <a:gd name="textAreaTop" fmla="*/ 203760 h 533520"/>
              <a:gd name="textAreaBottom" fmla="*/ 407520 h 533520"/>
            </a:gdLst>
            <a:ahLst/>
            <a:rect l="textAreaLeft" t="textAreaTop" r="textAreaRight" b="textAreaBottom"/>
            <a:pathLst>
              <a:path w="533400" h="533400">
                <a:moveTo>
                  <a:pt x="1" y="203740"/>
                </a:moveTo>
                <a:lnTo>
                  <a:pt x="203742" y="203742"/>
                </a:lnTo>
                <a:lnTo>
                  <a:pt x="266700" y="0"/>
                </a:lnTo>
                <a:lnTo>
                  <a:pt x="329658" y="203742"/>
                </a:lnTo>
                <a:lnTo>
                  <a:pt x="533399" y="203740"/>
                </a:lnTo>
                <a:lnTo>
                  <a:pt x="368569" y="329658"/>
                </a:lnTo>
                <a:lnTo>
                  <a:pt x="431530" y="533398"/>
                </a:lnTo>
                <a:lnTo>
                  <a:pt x="266700" y="407479"/>
                </a:lnTo>
                <a:lnTo>
                  <a:pt x="101870" y="533398"/>
                </a:lnTo>
                <a:lnTo>
                  <a:pt x="164831" y="329658"/>
                </a:lnTo>
                <a:close/>
              </a:path>
            </a:pathLst>
          </a:custGeom>
          <a:solidFill>
            <a:srgbClr val="ffff00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TextBox 6"/>
          <p:cNvSpPr/>
          <p:nvPr/>
        </p:nvSpPr>
        <p:spPr>
          <a:xfrm>
            <a:off x="233640" y="5311800"/>
            <a:ext cx="1722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Mexic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http://z.about.com/d/geography/1/0/9/H/usa3.jpg"/>
          <p:cNvPicPr/>
          <p:nvPr/>
        </p:nvPicPr>
        <p:blipFill>
          <a:blip r:embed="rId1"/>
          <a:stretch/>
        </p:blipFill>
        <p:spPr>
          <a:xfrm>
            <a:off x="1981080" y="2620800"/>
            <a:ext cx="5257800" cy="4237200"/>
          </a:xfrm>
          <a:prstGeom prst="rect">
            <a:avLst/>
          </a:prstGeom>
          <a:ln w="0">
            <a:noFill/>
          </a:ln>
        </p:spPr>
      </p:pic>
      <p:sp>
        <p:nvSpPr>
          <p:cNvPr id="80" name="TextBox 2"/>
          <p:cNvSpPr/>
          <p:nvPr/>
        </p:nvSpPr>
        <p:spPr>
          <a:xfrm>
            <a:off x="228600" y="541440"/>
            <a:ext cx="8915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New Spain = __________________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TextBox 3"/>
          <p:cNvSpPr/>
          <p:nvPr/>
        </p:nvSpPr>
        <p:spPr>
          <a:xfrm>
            <a:off x="3662640" y="304920"/>
            <a:ext cx="851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alibri"/>
              </a:rPr>
              <a:t>F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Box 4"/>
          <p:cNvSpPr/>
          <p:nvPr/>
        </p:nvSpPr>
        <p:spPr>
          <a:xfrm>
            <a:off x="4419720" y="279360"/>
            <a:ext cx="377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TextBox 5"/>
          <p:cNvSpPr/>
          <p:nvPr/>
        </p:nvSpPr>
        <p:spPr>
          <a:xfrm>
            <a:off x="4806000" y="330120"/>
            <a:ext cx="977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alibri"/>
              </a:rPr>
              <a:t>TX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xtBox 6"/>
          <p:cNvSpPr/>
          <p:nvPr/>
        </p:nvSpPr>
        <p:spPr>
          <a:xfrm>
            <a:off x="5639040" y="304920"/>
            <a:ext cx="377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7"/>
          <p:cNvSpPr/>
          <p:nvPr/>
        </p:nvSpPr>
        <p:spPr>
          <a:xfrm>
            <a:off x="5951880" y="330120"/>
            <a:ext cx="1348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alibri"/>
              </a:rPr>
              <a:t>NM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extBox 8"/>
          <p:cNvSpPr/>
          <p:nvPr/>
        </p:nvSpPr>
        <p:spPr>
          <a:xfrm>
            <a:off x="7162920" y="304920"/>
            <a:ext cx="377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TextBox 9"/>
          <p:cNvSpPr/>
          <p:nvPr/>
        </p:nvSpPr>
        <p:spPr>
          <a:xfrm>
            <a:off x="4433760" y="1270080"/>
            <a:ext cx="1006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alibri"/>
              </a:rPr>
              <a:t>AZ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Box 10"/>
          <p:cNvSpPr/>
          <p:nvPr/>
        </p:nvSpPr>
        <p:spPr>
          <a:xfrm>
            <a:off x="5342760" y="1244520"/>
            <a:ext cx="377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1"/>
          <p:cNvSpPr/>
          <p:nvPr/>
        </p:nvSpPr>
        <p:spPr>
          <a:xfrm>
            <a:off x="5576760" y="1270080"/>
            <a:ext cx="104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alibri"/>
              </a:rPr>
              <a:t>CA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TextBox 13"/>
          <p:cNvSpPr/>
          <p:nvPr/>
        </p:nvSpPr>
        <p:spPr>
          <a:xfrm>
            <a:off x="5795280" y="5613480"/>
            <a:ext cx="718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00"/>
                </a:solidFill>
                <a:latin typeface="Calibri"/>
              </a:rPr>
              <a:t>FL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14"/>
          <p:cNvSpPr/>
          <p:nvPr/>
        </p:nvSpPr>
        <p:spPr>
          <a:xfrm>
            <a:off x="3977280" y="5257800"/>
            <a:ext cx="817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00"/>
                </a:solidFill>
                <a:latin typeface="Calibri"/>
              </a:rPr>
              <a:t>TX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TextBox 15"/>
          <p:cNvSpPr/>
          <p:nvPr/>
        </p:nvSpPr>
        <p:spPr>
          <a:xfrm>
            <a:off x="3358440" y="4978440"/>
            <a:ext cx="7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Calibri"/>
              </a:rPr>
              <a:t>N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extBox 16"/>
          <p:cNvSpPr/>
          <p:nvPr/>
        </p:nvSpPr>
        <p:spPr>
          <a:xfrm>
            <a:off x="2859120" y="5038560"/>
            <a:ext cx="56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Calibri"/>
              </a:rPr>
              <a:t>AZ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17"/>
          <p:cNvSpPr/>
          <p:nvPr/>
        </p:nvSpPr>
        <p:spPr>
          <a:xfrm>
            <a:off x="1909440" y="4343400"/>
            <a:ext cx="814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00"/>
                </a:solidFill>
                <a:latin typeface="Calibri"/>
              </a:rPr>
              <a:t>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http://www.johomaps.com/na/nablank.jpg"/>
          <p:cNvPicPr/>
          <p:nvPr/>
        </p:nvPicPr>
        <p:blipFill>
          <a:blip r:embed="rId1"/>
          <a:stretch/>
        </p:blipFill>
        <p:spPr>
          <a:xfrm>
            <a:off x="2666880" y="2089080"/>
            <a:ext cx="4165560" cy="4540320"/>
          </a:xfrm>
          <a:prstGeom prst="rect">
            <a:avLst/>
          </a:prstGeom>
          <a:ln w="0">
            <a:noFill/>
          </a:ln>
        </p:spPr>
      </p:pic>
      <p:sp>
        <p:nvSpPr>
          <p:cNvPr id="96" name="Freeform 2"/>
          <p:cNvSpPr/>
          <p:nvPr/>
        </p:nvSpPr>
        <p:spPr>
          <a:xfrm>
            <a:off x="4950000" y="5021280"/>
            <a:ext cx="307800" cy="1163520"/>
          </a:xfrm>
          <a:custGeom>
            <a:avLst/>
            <a:gdLst/>
            <a:ahLst/>
            <a:rect l="l" t="t" r="r" b="b"/>
            <a:pathLst>
              <a:path w="308447" h="1163786">
                <a:moveTo>
                  <a:pt x="100629" y="19324"/>
                </a:moveTo>
                <a:cubicBezTo>
                  <a:pt x="0" y="170268"/>
                  <a:pt x="83493" y="0"/>
                  <a:pt x="121411" y="123233"/>
                </a:cubicBezTo>
                <a:cubicBezTo>
                  <a:pt x="204666" y="393813"/>
                  <a:pt x="52286" y="321864"/>
                  <a:pt x="204538" y="372615"/>
                </a:cubicBezTo>
                <a:cubicBezTo>
                  <a:pt x="211465" y="393397"/>
                  <a:pt x="225320" y="413055"/>
                  <a:pt x="225320" y="434961"/>
                </a:cubicBezTo>
                <a:cubicBezTo>
                  <a:pt x="225320" y="473253"/>
                  <a:pt x="209348" y="591595"/>
                  <a:pt x="183756" y="642779"/>
                </a:cubicBezTo>
                <a:cubicBezTo>
                  <a:pt x="172586" y="665119"/>
                  <a:pt x="156047" y="684342"/>
                  <a:pt x="142192" y="705124"/>
                </a:cubicBezTo>
                <a:lnTo>
                  <a:pt x="100629" y="829815"/>
                </a:lnTo>
                <a:lnTo>
                  <a:pt x="79847" y="892161"/>
                </a:lnTo>
                <a:cubicBezTo>
                  <a:pt x="86774" y="961434"/>
                  <a:pt x="76838" y="1034552"/>
                  <a:pt x="100629" y="1099979"/>
                </a:cubicBezTo>
                <a:cubicBezTo>
                  <a:pt x="108115" y="1120566"/>
                  <a:pt x="141722" y="1115448"/>
                  <a:pt x="162974" y="1120761"/>
                </a:cubicBezTo>
                <a:cubicBezTo>
                  <a:pt x="281170" y="1150310"/>
                  <a:pt x="244638" y="1163786"/>
                  <a:pt x="308447" y="1099979"/>
                </a:cubicBezTo>
              </a:path>
            </a:pathLst>
          </a:custGeom>
          <a:noFill/>
          <a:ln w="381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extBox 3"/>
          <p:cNvSpPr/>
          <p:nvPr/>
        </p:nvSpPr>
        <p:spPr>
          <a:xfrm>
            <a:off x="228600" y="228600"/>
            <a:ext cx="8534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New France…Louisiana =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___________________________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extBox 4"/>
          <p:cNvSpPr/>
          <p:nvPr/>
        </p:nvSpPr>
        <p:spPr>
          <a:xfrm>
            <a:off x="176760" y="914400"/>
            <a:ext cx="8809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Mississippi River to Rocky Mounta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Freeform 5"/>
          <p:cNvSpPr/>
          <p:nvPr/>
        </p:nvSpPr>
        <p:spPr>
          <a:xfrm>
            <a:off x="6022800" y="4530600"/>
            <a:ext cx="758880" cy="320760"/>
          </a:xfrm>
          <a:custGeom>
            <a:avLst/>
            <a:gdLst/>
            <a:ahLst/>
            <a:rect l="l" t="t" r="r" b="b"/>
            <a:pathLst>
              <a:path w="757912" h="320446">
                <a:moveTo>
                  <a:pt x="23977" y="311728"/>
                </a:moveTo>
                <a:cubicBezTo>
                  <a:pt x="73999" y="161661"/>
                  <a:pt x="0" y="320446"/>
                  <a:pt x="252577" y="228600"/>
                </a:cubicBezTo>
                <a:cubicBezTo>
                  <a:pt x="273164" y="221114"/>
                  <a:pt x="256253" y="179939"/>
                  <a:pt x="273359" y="166255"/>
                </a:cubicBezTo>
                <a:cubicBezTo>
                  <a:pt x="295662" y="148413"/>
                  <a:pt x="328777" y="152400"/>
                  <a:pt x="356486" y="145473"/>
                </a:cubicBezTo>
                <a:cubicBezTo>
                  <a:pt x="404977" y="0"/>
                  <a:pt x="356486" y="6927"/>
                  <a:pt x="460395" y="41564"/>
                </a:cubicBezTo>
                <a:cubicBezTo>
                  <a:pt x="474250" y="62346"/>
                  <a:pt x="484298" y="86248"/>
                  <a:pt x="501959" y="103909"/>
                </a:cubicBezTo>
                <a:cubicBezTo>
                  <a:pt x="542246" y="144196"/>
                  <a:pt x="575942" y="149352"/>
                  <a:pt x="626650" y="166255"/>
                </a:cubicBezTo>
                <a:cubicBezTo>
                  <a:pt x="647432" y="159328"/>
                  <a:pt x="673505" y="160963"/>
                  <a:pt x="688995" y="145473"/>
                </a:cubicBezTo>
                <a:cubicBezTo>
                  <a:pt x="757912" y="76556"/>
                  <a:pt x="673342" y="83128"/>
                  <a:pt x="730559" y="83128"/>
                </a:cubicBezTo>
              </a:path>
            </a:pathLst>
          </a:custGeom>
          <a:noFill/>
          <a:ln w="381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0" name="Straight Arrow Connector 7"/>
          <p:cNvCxnSpPr/>
          <p:nvPr/>
        </p:nvCxnSpPr>
        <p:spPr>
          <a:xfrm>
            <a:off x="4038480" y="5105160"/>
            <a:ext cx="915120" cy="76680"/>
          </a:xfrm>
          <a:prstGeom prst="straightConnector1">
            <a:avLst/>
          </a:prstGeom>
          <a:ln w="76320">
            <a:solidFill>
              <a:srgbClr val="ff0000"/>
            </a:solidFill>
            <a:miter/>
            <a:headEnd len="med" type="arrow" w="med"/>
            <a:tailEnd len="med" type="arrow" w="med"/>
          </a:ln>
        </p:spPr>
      </p:cxnSp>
      <p:sp>
        <p:nvSpPr>
          <p:cNvPr id="101" name="Freeform 9"/>
          <p:cNvSpPr/>
          <p:nvPr/>
        </p:nvSpPr>
        <p:spPr>
          <a:xfrm>
            <a:off x="3740040" y="4281480"/>
            <a:ext cx="1414440" cy="1952640"/>
          </a:xfrm>
          <a:custGeom>
            <a:avLst/>
            <a:gdLst/>
            <a:ahLst/>
            <a:rect l="l" t="t" r="r" b="b"/>
            <a:pathLst>
              <a:path w="1413164" h="1953490">
                <a:moveTo>
                  <a:pt x="0" y="0"/>
                </a:moveTo>
                <a:lnTo>
                  <a:pt x="290946" y="1246909"/>
                </a:lnTo>
                <a:lnTo>
                  <a:pt x="1413164" y="1953490"/>
                </a:lnTo>
                <a:lnTo>
                  <a:pt x="1246909" y="249381"/>
                </a:lnTo>
                <a:lnTo>
                  <a:pt x="0" y="0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21:44:31Z</dcterms:created>
  <dc:creator>Valued Acer Customer</dc:creator>
  <dc:description/>
  <dc:language>en-US</dc:language>
  <cp:lastModifiedBy>.</cp:lastModifiedBy>
  <dcterms:modified xsi:type="dcterms:W3CDTF">2012-03-26T16:21:48Z</dcterms:modified>
  <cp:revision>13</cp:revision>
  <dc:subject/>
  <dc:title>Slide 1</dc:title>
</cp:coreProperties>
</file>